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59F24-10EF-4B4C-BE21-E033D1F8C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3A5AF-8E49-4CC5-8651-B4D230D68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2935F-3572-43E7-9707-DFACA40E1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5CB22-85F1-4723-B903-BDF958B31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200BE-4827-47E5-8EA4-81C2D0A08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35FC3-D00E-48D5-8497-E5A6CEB9D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1C71B-B0B9-4EE5-B589-6A5BA1628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743E9-98A4-4D07-8B2C-A4F1AB449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86495-B943-477D-8409-390637828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F8FD3-FD6B-422A-9918-B115640EF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55E81-1EEE-4E12-BD41-7EB723264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CC209-3C98-4886-BB44-644B6D035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766C2-AC25-4BA7-9E6A-60331CF055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3027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3962520"/>
            <a:ext cx="678168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oper Black"/>
              </a:rPr>
              <a:t>A website that can be collaboratively edi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2590920" y="2133720"/>
            <a:ext cx="373356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 Black"/>
              </a:rPr>
              <a:t>Wiki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</p:spTree>
  </p:cSld>
  <p:transition spd="slow" advTm="10000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30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30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3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00"/>
            </a:gs>
            <a:gs pos="50000">
              <a:srgbClr val="cccc00"/>
            </a:gs>
            <a:gs pos="100000">
              <a:srgbClr val="5e5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66"/>
                </a:solidFill>
                <a:latin typeface="Cooper Black"/>
              </a:rPr>
              <a:t>Collaborate? Why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560" y="1447920"/>
            <a:ext cx="830556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3300"/>
                </a:solidFill>
                <a:latin typeface="Comic Sans MS"/>
              </a:rPr>
              <a:t>Team work, makes the dream work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04920" y="3200400"/>
            <a:ext cx="830556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Students in K12 do projects and labs in groups or team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They need to work in team and present as a team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They need a canvas to shar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circle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8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8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8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8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8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8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8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8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8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8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8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8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71b0a"/>
            </a:gs>
            <a:gs pos="50000">
              <a:srgbClr val="ffb343"/>
            </a:gs>
            <a:gs pos="100000">
              <a:srgbClr val="271b0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914400" y="213372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Its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Eas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Quick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And Free tool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1295280" y="533520"/>
            <a:ext cx="6477120" cy="1676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ff3300"/>
                  </a:solidFill>
                  <a:miter/>
                </a:ln>
                <a:solidFill>
                  <a:srgbClr val="ffdaa3"/>
                </a:solidFill>
                <a:effectLst>
                  <a:outerShdw dist="107932" dir="13500000" blurRad="0" rotWithShape="0">
                    <a:srgbClr val="808080">
                      <a:alpha val="50000"/>
                    </a:srgbClr>
                  </a:outerShdw>
                </a:effectLst>
                <a:latin typeface="Arial Black"/>
              </a:rPr>
              <a:t>Why Wiki??</a:t>
            </a:r>
            <a:endParaRPr b="0" lang="en-US" sz="1800" spc="1" strike="noStrike">
              <a:ln w="38160">
                <a:solidFill>
                  <a:srgbClr val="ff3300"/>
                </a:solidFill>
                <a:miter/>
              </a:ln>
              <a:solidFill>
                <a:srgbClr val="ffdaa3"/>
              </a:solidFill>
              <a:effectLst>
                <a:outerShdw dist="107932" dir="13500000" blurRad="0" rotWithShape="0">
                  <a:srgbClr val="808080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9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0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9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914400" y="233208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66"/>
                </a:solidFill>
                <a:latin typeface="Arial"/>
              </a:rPr>
              <a:t>A computer,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66"/>
                </a:solidFill>
                <a:latin typeface="Arial"/>
              </a:rPr>
              <a:t>Internet,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66"/>
                </a:solidFill>
                <a:latin typeface="Arial"/>
              </a:rPr>
              <a:t>and definitely a user or a team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914400" y="533520"/>
            <a:ext cx="7162920" cy="1676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333399"/>
                  </a:solidFill>
                  <a:miter/>
                </a:ln>
                <a:solidFill>
                  <a:srgbClr val="ffdaa3"/>
                </a:solidFill>
                <a:effectLst>
                  <a:outerShdw dist="107932" dir="13500000" blurRad="0" rotWithShape="0">
                    <a:srgbClr val="808080">
                      <a:alpha val="50000"/>
                    </a:srgbClr>
                  </a:outerShdw>
                </a:effectLst>
                <a:latin typeface="Arial Black"/>
              </a:rPr>
              <a:t>What does it need?</a:t>
            </a:r>
            <a:endParaRPr b="0" lang="en-US" sz="1800" spc="1" strike="noStrike">
              <a:ln w="38160">
                <a:solidFill>
                  <a:srgbClr val="333399"/>
                </a:solidFill>
                <a:miter/>
              </a:ln>
              <a:solidFill>
                <a:srgbClr val="ffdaa3"/>
              </a:solidFill>
              <a:effectLst>
                <a:outerShdw dist="107932" dir="13500000" blurRad="0" rotWithShape="0">
                  <a:srgbClr val="808080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slow" advTm="10000">
    <p:fade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5T02:46:16Z</dcterms:created>
  <dc:creator>ABC</dc:creator>
  <dc:description/>
  <dc:language>en-US</dc:language>
  <cp:lastModifiedBy>ABC</cp:lastModifiedBy>
  <dcterms:modified xsi:type="dcterms:W3CDTF">2011-10-05T03:32:37Z</dcterms:modified>
  <cp:revision>9</cp:revision>
  <dc:subject/>
  <dc:title>Slide 1</dc:title>
</cp:coreProperties>
</file>